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360-E80E-407B-B13E-5B67F88B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99B-368C-412C-81BF-F2D361B6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D7A-1396-447B-BE21-84343A2D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30C-DC60-4E21-950B-09F6A9D8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E09-8763-40EC-93E2-2CBCBCF4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0FF-1D45-4147-BF33-E2907C5B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8E3-8AEE-4A78-BE97-AF64BDF3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29C-25D5-4A2C-B5D9-828D6D14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DE6-B579-424B-B34C-812AA920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BB1-67A2-4BC2-9C81-540FBCD0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903-25E8-4625-95BA-DE4E0F4F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47D-6F14-43DA-9204-F8CB15FE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0DFB-3638-4EEA-80D6-C40C25825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41440" y="11160"/>
            <a:ext cx="99378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Green caterpillar(Isalo)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Insect resembling a partially chewed leaf(Masoala NP)"/>
          <p:cNvPicPr/>
          <p:nvPr/>
        </p:nvPicPr>
        <p:blipFill>
          <a:blip r:embed="rId1"/>
          <a:stretch/>
        </p:blipFill>
        <p:spPr>
          <a:xfrm>
            <a:off x="1952640" y="1461960"/>
            <a:ext cx="5238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05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66960" y="723960"/>
            <a:ext cx="72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33480"/>
            <a:ext cx="73152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95560"/>
            <a:ext cx="4114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957240"/>
            <a:ext cx="76197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957240"/>
            <a:ext cx="76197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057320"/>
            <a:ext cx="7315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781200"/>
            <a:ext cx="73152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43040" y="723960"/>
            <a:ext cx="4057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6:40:09Z</dcterms:created>
  <dc:creator>John</dc:creator>
  <dc:description/>
  <dc:language>en-US</dc:language>
  <cp:lastModifiedBy>John</cp:lastModifiedBy>
  <dcterms:modified xsi:type="dcterms:W3CDTF">2006-11-25T17:18:57Z</dcterms:modified>
  <cp:revision>4</cp:revision>
  <dc:subject/>
  <dc:title>Slide 1</dc:title>
</cp:coreProperties>
</file>